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59B6A-4D67-4CF6-B9D4-85CF26803347}" type="datetime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9A431-AE6A-4901-BAC3-4D5BF555792C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51DF2-6A42-4D6B-B266-97F8BCCE5377}" type="slidenum">
              <a:rPr b="0" lang="en-GB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"/>
          <p:cNvSpPr/>
          <p:nvPr/>
        </p:nvSpPr>
        <p:spPr>
          <a:xfrm>
            <a:off x="1209600" y="693720"/>
            <a:ext cx="4438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685440" y="434196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7052D-96B9-4487-B67B-2C67F2F9E5A5}" type="slidenum">
              <a:rPr b="0" lang="en-GB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440" y="4341960"/>
            <a:ext cx="548172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339C-DB48-48CF-AAFE-E0456374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5DD-429A-48D6-A9B5-DB6F2A37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18B09-52D8-4FC3-81CC-FE14D136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0BC18-480D-46D5-A53B-195A9909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2504D-FD67-406A-A17F-F240B74D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EC905-E8CE-4544-8C13-05D07AA2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B10A8-2271-4E45-AC61-212F4938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4C397-6380-4C70-97C1-A5A78722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FE944-6EC9-46B6-A7C7-3265D6F4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BBF1F-BB54-4BDD-8FF2-CF258E56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9AB76-21CD-444C-9347-17EBC70F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7447-3BC2-4A41-A694-F529FD31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F227-7951-48D2-8878-EC64B321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DBED-35D9-4863-A395-E12ACC38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D5A3-01B6-49AB-BEE7-E738059F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7E3B-8F3B-4CB8-B5BD-5E189314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6408-D9F8-4893-BAD6-46F51E0B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3984-04D9-4300-9CF0-E6D13FF2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2C38-D2C8-4B4A-8573-0CA98D69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C74C-EABF-486F-B2B8-9480284E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DDDC-0C2D-4FCB-AE76-DE2731F8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388F-85E2-4A63-8FDE-2787E849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1790-9809-4564-8F9A-4A39C691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9871-9F99-4E84-8BDD-56D59497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27AD-3324-4688-B67F-C725538C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EA91-5C44-493D-89DF-F8176506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3BCEC-0370-4DC6-8057-9E05F2D1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37426-441F-4E7E-8DF2-E90EADEB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81111-2DCC-4059-8EC4-115EE971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E2073-79B5-4173-BA1F-9CE34B74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086C3-F9CF-4277-ADC4-99470645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2E1C-88B6-4FB7-A7CA-FE8D8939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026A2-4E26-487B-898F-80F4EB00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FA445-6D22-4B17-936D-33C828A0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0E2A1-A77D-4E94-A871-A27851DB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FB0F8-A35F-43EB-B594-F7587DE8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392F5-065D-4D10-899B-C6C6174F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0EEA0-3E78-42EB-B360-40EB0F2D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11891-906B-43FB-B437-7362674F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3BF3F-6483-4997-B438-26685B17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B6703-CCB3-4DA2-903B-B2BBBE0B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0E2A1-C140-4D14-B087-4200A5E3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C49B-80E7-4DDF-85AD-C9F52C43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F7420-3773-4645-9984-C6B5B379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6F198-1343-4015-8D56-ADD0081D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D2C84-C932-4F3C-8355-BEF3023C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734DE-8409-4707-9C2B-7E3A31C0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F6FFE-3A2E-4FB5-8B1E-01D4BEF2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DAD56-F17D-4A7C-BFD1-596C5818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A9BE9-0491-403B-B43F-DD192F0C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9E0C9-BBE4-494E-A42D-B0F5BD80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33B70-AA9C-4575-AF84-8C6E0129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12C50-7F0F-4591-AE54-A9FA2773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16B7-C4D5-4DEE-A49E-DB97EE6A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B4073-3956-49CC-A278-90150A3E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1BD9F-6D6B-4578-892F-6A924332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81522-F445-4D20-A550-CD387535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7059F-6D1A-41D6-BB08-54414D0E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76ECD-AF34-47E5-A82E-A10CF270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CF8F8-F9BB-407F-8647-6F1DF7C2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09756-2BA3-4061-A296-584BF3FB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B4DEB-243D-4428-AD04-F65899A1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1EBAD-DCFF-46A0-A2F8-BE27E7BD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A89C9-3C3D-45A8-853A-0FCB19DC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DC77-E330-4E24-B1CC-2B3410AF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4BB6A-3179-4F0E-BEC8-B86B5D29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7D852-F4DD-4386-9BFA-AA0B84E4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D8FAB-2855-492A-A1C0-ED028569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D5A05-EB91-4670-A0CC-4BF21751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0A2EC-B0B3-4C25-96C8-4F10AAD8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55FE8-CAAA-414A-8447-1DB998E6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2C0F6-97F0-477D-8F7B-2A4A6C56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BC837-EA71-4A9D-A56C-DD209E21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799C0-85FA-4E4E-A445-5AFF7795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52286-F388-430B-A468-10A9EFAC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FD90-22FA-4354-A37F-AFEB2FAD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3F45B-A10E-4E7D-923C-20A11689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22E4E-CDA1-4B99-B540-28618D597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D5A46-7D4F-411D-88B1-A51A5A3F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06F1E-6E84-440D-874B-DFD68E00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225AF-8032-4519-AFA0-8BCD8CB2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2B589-A0C9-4BDE-9915-178EBF29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0FE46-32FF-4FF4-BB43-CC4C3ED1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1ACB5-149C-4C8B-B2ED-B4157BC6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88D50-9EFE-459C-B20D-83471D61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B7331-AFAD-4771-BC9C-7D7662A3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4D7C-5FE4-452C-9DFC-65752C7A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2B717-B369-4C60-9A67-9E47A7DC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E120C-11D2-47CD-814E-3E6393D1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A3099-2A38-422B-9725-7B605CFE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7894D-0AC6-43B1-857C-F5942039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2C62B-C9E9-47C4-9314-34C41633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29947-2691-447A-8D85-98B70A2E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987D8-E1C9-4375-B22B-DB435E91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47E2A-B41C-4352-B2F9-595B8E1A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1E9C4-39C7-4D44-94FE-48373C2C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5C621-3BB1-488D-AC77-79925F18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DE1-CB79-4FDD-8AA8-72B7EAF2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F5E0D-F708-4335-9EA8-DC11E35A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32334-9A4B-4446-85A4-0BEAD347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358A9-63DF-4857-A3D4-EF60D6F2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E66D6-394A-456F-8895-68C545EE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890E0-7826-4EF6-B332-E227455E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D7CA2-1E23-4F52-ACD7-1E422194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0ED36-C97D-415B-AF4E-593127E4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54CA0-AF44-4224-99CD-BF3C15AD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1E37C-CD7C-4105-8F30-FAD94E0D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7B369-B09B-4D77-843C-BD73D040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EF317-654B-4FAD-ADFE-5234675C70E1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B14C1-5F3D-46F6-A066-BB7C8A3F11A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9FD78-CE2D-41CB-8C7A-15F0E12ACB17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A6756-C3BE-48BF-A46C-D4649E7FEFF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93A323-63E8-41ED-9540-5D2B374434D9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DF83F-E990-4EEE-B7D4-ADE823C1490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DE2AB-1C39-489F-B20A-C7689224F630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D931B-6F3C-4DA1-AF0E-32A502C7142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125D39-DA0F-49E5-A0D5-67133B6A8C9A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071E2-3344-4522-98C1-A6AA23E6A6A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E3D3A-7738-44A0-8D2F-180EFB5B8C46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CD98D7-4919-4917-AE74-A0F3E96DB52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1CAEE-7F0B-49BD-AF9F-503BB01D9F49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9C887-96B1-455D-8529-9B80CDA0368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BD198-0AA3-427C-93FE-78906D972A9F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F933D-ADE9-4A76-850B-72F17E774B2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3371F-94E1-4FAE-AD9F-C7DAB17271AA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0BBE6-303B-40ED-9BB8-2E1A45C1459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3"/>
          <p:cNvSpPr/>
          <p:nvPr/>
        </p:nvSpPr>
        <p:spPr>
          <a:xfrm>
            <a:off x="287280" y="469800"/>
            <a:ext cx="8264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HWRF-v3: Common Code for R &amp; O </a:t>
            </a: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(Ligia Bernardet (DTC) &amp; collabora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736560" y="1181160"/>
            <a:ext cx="8140680" cy="1922400"/>
          </a:xfrm>
          <a:prstGeom prst="rect">
            <a:avLst/>
          </a:prstGeom>
          <a:noFill/>
          <a:ln w="1908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</a:rPr>
              <a:t>Preparing and testing the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a5644e"/>
                </a:solidFill>
                <a:latin typeface="Times New Roman"/>
                <a:ea typeface="ＭＳ Ｐゴシック"/>
              </a:rPr>
              <a:t>Vortex Initialization, Vortex Tracker, POM-TC, Coupler in repositories at DTC, with refined build mechanism; several bugs found/corr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a5644e"/>
                </a:solidFill>
                <a:latin typeface="Times New Roman"/>
                <a:ea typeface="ＭＳ Ｐゴシック"/>
              </a:rPr>
              <a:t>WRF: All HWRF features in general WRF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Preliminary </a:t>
            </a:r>
            <a:r>
              <a:rPr b="1" lang="en-US" sz="1800" spc="-1" strike="noStrike">
                <a:solidFill>
                  <a:srgbClr val="a5644e"/>
                </a:solidFill>
                <a:latin typeface="Times New Roman"/>
                <a:ea typeface="ＭＳ Ｐゴシック"/>
              </a:rPr>
              <a:t>tests show HWRF-v3 produces similar results to oper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736560" y="3494160"/>
            <a:ext cx="8140680" cy="1221480"/>
          </a:xfrm>
          <a:prstGeom prst="rect">
            <a:avLst/>
          </a:prstGeom>
          <a:noFill/>
          <a:ln w="1908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</a:rPr>
              <a:t>Preparing Materials for February Tu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a5644e"/>
                </a:solidFill>
                <a:latin typeface="Times New Roman"/>
                <a:ea typeface="ＭＳ Ｐゴシック"/>
              </a:rPr>
              <a:t>Simplified scrip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a5644e"/>
                </a:solidFill>
                <a:latin typeface="Times New Roman"/>
                <a:ea typeface="ＭＳ Ｐゴシック"/>
              </a:rPr>
              <a:t>Scientific documentation, Users’ Guide, Website, Case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736560" y="4954680"/>
            <a:ext cx="8140680" cy="1648080"/>
          </a:xfrm>
          <a:prstGeom prst="rect">
            <a:avLst/>
          </a:prstGeom>
          <a:noFill/>
          <a:ln w="1908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</a:rPr>
              <a:t>Planning for FY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a5644e"/>
                </a:solidFill>
                <a:latin typeface="Times New Roman"/>
                <a:ea typeface="ＭＳ Ｐゴシック"/>
              </a:rPr>
              <a:t>Include 2010 operational upgrades in repos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a5644e"/>
                </a:solidFill>
                <a:latin typeface="Times New Roman"/>
                <a:ea typeface="ＭＳ Ｐゴシック"/>
              </a:rPr>
              <a:t>Finalize DTC HWRF T&amp;E Infrastrucure and test new develop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a5644e"/>
                </a:solidFill>
                <a:latin typeface="Times New Roman"/>
                <a:ea typeface="ＭＳ Ｐゴシック"/>
              </a:rPr>
              <a:t>Transition HWRF-v3 to EMC for 2011 sea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1" descr=""/>
          <p:cNvPicPr/>
          <p:nvPr/>
        </p:nvPicPr>
        <p:blipFill>
          <a:blip r:embed="rId2"/>
          <a:stretch/>
        </p:blipFill>
        <p:spPr>
          <a:xfrm>
            <a:off x="450720" y="219240"/>
            <a:ext cx="8242560" cy="9144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57200" y="103644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2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e3b30"/>
                </a:solidFill>
                <a:latin typeface="Times New Roman"/>
              </a:rPr>
              <a:t>Continue using HWRF (v2) for 2010 implementation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2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e3b30"/>
                </a:solidFill>
                <a:latin typeface="Times New Roman"/>
              </a:rPr>
              <a:t>Suggested upgrades include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8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e3b30"/>
                </a:solidFill>
                <a:latin typeface="Times New Roman"/>
              </a:rPr>
              <a:t>Bug Fixes (New Baseline version H050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8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e3b30"/>
                </a:solidFill>
                <a:latin typeface="Times New Roman"/>
              </a:rPr>
              <a:t>Changes to initialization (additional data in GSI, H051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8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e3b30"/>
                </a:solidFill>
                <a:latin typeface="Times New Roman"/>
              </a:rPr>
              <a:t>Surface physics changes (Cd/Ch coefficients calculated based on observations, H052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8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e3b30"/>
                </a:solidFill>
                <a:latin typeface="Times New Roman"/>
              </a:rPr>
              <a:t>Gravity Wave Drag Parameterization (H053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8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e3b30"/>
                </a:solidFill>
                <a:latin typeface="Times New Roman"/>
              </a:rPr>
              <a:t>Combination of H050+H051+H052+H053 (H054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8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e3b30"/>
                </a:solidFill>
                <a:latin typeface="Times New Roman"/>
              </a:rPr>
              <a:t>Separate stream of runs replacing POM with HYCOM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8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e3b30"/>
                </a:solidFill>
                <a:latin typeface="Times New Roman"/>
              </a:rPr>
              <a:t>HYC1 ---- H050+HYCOM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8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e3b30"/>
                </a:solidFill>
                <a:latin typeface="Times New Roman"/>
              </a:rPr>
              <a:t>HYC2 ---- H054+HYCOM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2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e3b30"/>
                </a:solidFill>
                <a:latin typeface="Times New Roman"/>
              </a:rPr>
              <a:t>About 610 cases run for each of these configurations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2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e3b30"/>
                </a:solidFill>
                <a:latin typeface="Times New Roman"/>
              </a:rPr>
              <a:t>Another set of runs planned to test impact of new GFS Phase2 implementation scheduled for this summer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7682040" y="6400800"/>
            <a:ext cx="8985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spcBef>
                <a:spcPts val="1026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B3C85-4C6E-4A41-8F0E-791ACC43C8D7}" type="slidenum">
              <a:rPr b="1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6222960" y="760320"/>
            <a:ext cx="292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(Vijay Tallapragada (EMC) &amp; collabora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CC086-EDCA-417E-8B55-E3003856C194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Rectangle 1" descr=""/>
          <p:cNvPicPr/>
          <p:nvPr/>
        </p:nvPicPr>
        <p:blipFill>
          <a:blip r:embed="rId2"/>
          <a:stretch/>
        </p:blipFill>
        <p:spPr>
          <a:xfrm>
            <a:off x="450720" y="311040"/>
            <a:ext cx="8236080" cy="11574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312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2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Times New Roman"/>
              </a:rPr>
              <a:t>DTC: Technical and scientific documentation, tutorial preparation, mini R2O test using HWRF code drawn from the trunk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Times New Roman"/>
              </a:rPr>
              <a:t>Once HWRF 2010 implementation is finalized, move to HWRF V3 framework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Times New Roman"/>
              </a:rPr>
              <a:t>Re-visit momentum mixing issu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Times New Roman"/>
              </a:rPr>
              <a:t>Third nest capabil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Times New Roman"/>
              </a:rPr>
              <a:t>Meeting with HRD folks at EMC during first week of Februa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37:26Z</dcterms:created>
  <dc:creator>Ligia Bernardet</dc:creator>
  <dc:description/>
  <dc:language>en-US</dc:language>
  <cp:lastModifiedBy>gopal</cp:lastModifiedBy>
  <dcterms:modified xsi:type="dcterms:W3CDTF">2010-01-20T18:50:44Z</dcterms:modified>
  <cp:revision>61</cp:revision>
  <dc:subject/>
  <dc:title>Slide 1</dc:title>
</cp:coreProperties>
</file>